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A77-A0F1-47CD-B426-D41D8203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333-6274-4922-830B-D9299B40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3164A-EAAD-435E-8E8A-BACA8C89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4C409-289F-40A8-97BE-5AEB3515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9F96D-9FAD-4478-A254-020F1221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23192-9D91-4561-9925-CA28F8A6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8F27E-EC94-488F-BAF7-E9073D34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EB56C-E450-4F3E-B2BC-1D3AD5FB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A0A4F-B011-4690-B95E-015268A3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C398E-9C73-48C2-AA21-350DA5A3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488F6-48F5-4255-961F-1CAC14C5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33D29-40DA-4B59-86D3-F34D3A4A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89D-4788-42D1-AAF5-D540981F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B1BBE-F3EC-4100-A0A8-93A2D304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35FEA-2776-4510-8F26-EB4A543B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78925-57A9-4F72-A973-D950335D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CDA3B-6093-4A38-BCEB-675DA959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B27DC-E561-453F-8AF1-A5D07D89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4C116-5753-40D6-B481-11E99055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7FF95-C4F1-4593-80FB-15BC96EC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F31CB-1200-428E-8A31-1A634331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CF4E2-6050-4998-9825-C09406FB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5102D-0CA9-427A-B7BC-FBEC016F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1D0-74CD-4B6C-813C-85E7CDA4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B68DD-9E85-4B23-9ED1-B4733140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BD32E-3047-422A-9933-55D3A2DD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95CE1-6D67-46A0-A674-39DD4446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9CED1-1371-4BBF-9179-79E0DFFF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AD15B-20E0-4FEC-A3D9-1D32045A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542B1-AECD-4803-AD1F-393CFFA4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6D4ED-4861-4316-82D0-FFA821EA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A2409-9CB7-448B-9330-7A7AB391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EFD5F-3D03-4C81-8D0F-C4E0A74D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348B6-FC2C-45F2-A565-0D7B9551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FA15-333F-493D-9822-4A5D4F46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0ACB6-5C30-4284-8F3D-6F4F6834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FDDB4-EDB2-4354-9992-F26AF988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24BB9-FA9A-42A3-92EA-E94BE63F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D79E4-A508-4709-939D-5075E325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3DBF5-F367-4758-9DFA-522C5556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425AE-8D01-48DF-B0DC-E5806075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E8752-5C9E-4903-A0AC-3E8EE3D7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F8E17-AD6E-4FEF-BDA8-C40F09EA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486F2-9436-49E7-B537-6B27097C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7FB67-F718-4234-99E8-CB41241C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C445-0F1D-44F7-9177-9BEB60E1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AAB13-12C5-494A-89F1-05003CC0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61240-10FC-4080-86A6-D964B0A0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C4ED7-24FD-467F-A36D-E042B120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A77AC-B52F-4190-95D1-2B712080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6EE2E-6D90-4D5B-899D-9774A6F6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AFBDF-A926-45CB-8B7B-304EC225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2C91F-75B9-49D8-92DC-B17BBE35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64819-ADFA-4500-BB30-7105256E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DB620-043F-4AF4-B3ED-67AEA31F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98B8C-2F4F-4CB7-9708-DCB2098A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22E0-FF25-4EE5-A394-1EAB86C0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7DFCD-A3AD-4366-841D-50A64EAC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D18C2-2727-4389-B596-51C8AF1E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8FEF0-1362-4DD5-80C0-3AD471EC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43913-318E-4B13-9915-92906835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AD1A4-EB28-4B88-86B6-0409E700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02B4A-7CAB-43B6-87CD-96F39D31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201C7-AF1F-42E7-8DBA-0BDC3185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93CF6-0765-47B1-9138-83ABB588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EE29A-2347-4CDD-9A49-3238DD2D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ECEF1-457C-427E-864C-AA410385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705F-13C6-4E06-81ED-1937C7F8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5DDEC-3249-41C0-8312-FCCD5137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BDE4A-A5D7-4EC9-B1BA-1234943C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567EC-1427-4BA1-8426-CE4CF2E0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118D5-D9A6-4A7B-B902-97F18A2B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2B643-62A1-4B7E-943B-30C9A6CC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21EA7-6895-47BC-9DE5-2ACF9BB5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17372-4BDF-41D8-8FE2-ACEFAF59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C0E85-B56E-41EB-9168-F45709D3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704C6-2F4D-4270-B6D9-8E4627C3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27E5D-B8B9-4E04-B429-93F37427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0D9F-8EC4-4C7D-9308-190A3D5F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E750E-3942-46EF-9EF7-EB5BBD29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8C401-6AF4-4F3D-AA24-4CD69932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8C28F-42F6-4898-840F-58E07B0C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00627-E210-4656-9628-CBEC8951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E6CF4B-9D2E-4A58-A8F2-2130835A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24EC6-1367-4912-8658-809CB0AA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F4685-1C30-45C1-8063-8E6CC425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7A90F-4EDA-45E5-B9CA-7D15BF6D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BB16C-4B53-4F32-95D6-9AAE389B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CD8C4-CB93-4A6E-B88B-C9E92EF3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BA2B-752D-4C54-8385-1602272E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DEE96-738B-45B9-B8C1-4568B160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C39BD-AB06-44DD-9317-5DAA794C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B85E4-D2D2-4D9F-ADE0-8B7AB7BB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13E7A-547A-42CE-9605-A08AD09E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6DD61-AE2D-4A34-87EB-9086A258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408CB8-2B61-417D-98D9-76290979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209FE4-874F-4C6A-BFED-A748BBDC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E9EEA-291F-44FE-8BB7-0C26113A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16C54E-3CD9-4F4A-AB28-9C22B784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AAF0DC-56A0-4D7C-A383-AD2C705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54D4-E01E-4798-932E-DA519E13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6A285-80B6-495A-A29C-929124E7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E0E1A-A34D-4E73-8068-16F99CDD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7D97F-B999-4619-ACF7-CF46609C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3B6B5-CD66-4AE2-89E2-C7008032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841E20-FD3E-4907-9D82-80CF7191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02C61-C829-4BAB-87E6-3665DEEC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BB5CB6-FD10-4D60-AF8C-E24F1467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5C3AA-1186-40A8-BB5C-2DEE52CA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878E3-7834-48CD-9170-38418E07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A54A1-7659-4699-828F-F6EC8479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A88-CA30-469C-B357-2EF2F4BF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C457-B1F8-40A2-8BD5-DBFC7169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21A48C-44A1-4AE6-BD58-C9FA25FE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6ED9E-F378-45E5-9C59-5BF45769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76F7CF-2B68-4F33-B335-F24B156C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CE0AF-5037-4EC0-B1EF-08F35AF2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34690-60E0-48BC-BA28-519961CB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A2BC14-4F0E-4133-A74C-9830177A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7FD193-BDAA-4EEA-90F7-38839948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324AE1-05A0-443F-B9B3-45466DA0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E19685-1F33-4E07-946E-2943D712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5D67B-2A9B-4F32-8D71-F7ECC26B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8981-C95D-46E1-A760-5883EF44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C2E59-CF11-4375-A5F3-AF914B78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87643-9BCE-4933-8A90-838024D1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0EE00-8B4F-42F4-A606-BCA0D7DD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782EDB-EDF8-4E2D-BCCA-4914C149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10694-9AD1-4D51-9D62-40608162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F9BE2-774A-4247-9098-87B17C28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4256F-74F6-4D03-BB42-B675B075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F4327D-17D2-4C3B-BB46-BD426D8B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0F667-CF9B-4A55-BA03-E2064AA0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C65AB1-C120-4A61-ABA7-7C7F5429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750F-E779-4DD2-82C3-D3E5BCBE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8B6DF-FFFF-47BA-9FD9-AB0D4F61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B091A6-FB8B-4BD8-8C56-25678891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C39CBB-5405-430C-935F-849EBD66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A0D603-62D5-4AD0-A6A1-A66CFD55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4204D-E128-4CB6-914C-C730CEA2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7AFDDB-0847-4D6D-8F92-D914D312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DEC224-A672-41C7-9855-B46EF17C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55736-35ED-43F8-87D5-FC3C4A92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DB0A84-8A7E-4B6D-9B11-8A5AA3C2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CFE43-2AD0-446B-A5D5-29CD7293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1576-2808-45EB-85B1-5795ADED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90325-1598-4EC5-AC49-9FE51374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0DBD7-0C70-41C8-A85F-72F1D5C0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17EBC8-7C33-451D-83D0-C8DFC911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CC5861-8BFA-4876-826B-F09813D4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6E26B6-624A-438C-8498-71E78A59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1247D3-BD95-490D-B8FA-ABD2392C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909270-612B-4E2F-A5D5-F994E9D4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477BB-BF67-4141-8BD4-A38837C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33938B-37F4-4D3F-B9B5-96521799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2C6397-A0A6-4C50-A91C-E91F57F4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183F-040D-4D9D-9E3E-4A851F55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AD576C-B32A-4BD6-ACDF-6B5D5641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90C25C-6DCA-4B87-B493-E62E6AF4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33551-58E0-4044-B31A-D69AE630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FBD876-1A22-4BED-B6D9-E5AFAFE4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8C7B5-5DBB-4C3C-8055-AB29432E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7D52D6-AA92-4F42-9C57-30D4C705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2241A-BBFA-48F5-A59D-3CDAA3C9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950441-AFBA-4EE8-84DC-67C24730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2805C-5936-4610-B023-4276CAD9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64DCC-F7B1-4E20-9AA6-477CA1F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A3358A-A863-4D7A-9FD0-287BA7C7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F8F620-DFCF-4488-B0B8-09ACF1E0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4F331F-F655-4797-A124-003AB7BE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700-19DB-4100-9235-E40F7AD2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6FE9-ADBA-4E31-A943-5F63E286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16C6-A192-4169-9DB3-C866C784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46C8A-E900-4AEC-8B67-08C8BD2D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B39-6C70-4DA9-B6D4-65E14C50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E0B7F-9BD8-4B94-ABF8-783C61EF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8AD4-E637-4F82-B6E8-911FFA29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660E-B04C-4B41-97A1-2CCE24D9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8E0C-1FF1-4DC8-BA75-4A9714C0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EAA2-27C5-4BE4-A7B9-5E368CFE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155A4-A437-434B-8C31-4378E3B9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70B0-B964-4563-8BFA-9AFADFB4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2E69-EAD5-4E6F-BF02-11424809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35B7-137B-455F-8D9F-B349D9A2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F4254-2275-4AF3-98BB-91F55293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2DD-1B6F-4F79-8213-B1530E91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A3F2D-6B24-42B7-94ED-1A7E4FE1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4B9C8-C27F-4B2D-BFBB-9F3D5715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D83C-6352-4C48-83A7-A140021C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E4015-4A7E-41EF-B50B-D21F72A6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7FD6-4B58-4F57-B295-9FD65223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5A5A7-65AF-415B-B98B-C79BBA9A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2678C-3667-4E53-A209-EC27BB93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30669-639D-4118-AF9C-834EEC6B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C2810-3F2F-4639-BF88-E02249C9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FD3E2-DF46-43DD-89CC-2E66BAD8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E78-E3A3-4B86-961C-2A03F11D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F64C9-C3D3-4CC3-B662-3FF6CD98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EED40-E9C4-4AE2-9423-7B15D81F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D3608-45B6-4142-877A-BBE6BE48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6AB11-988B-49CA-A6BE-3AE55790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6B60F-0048-4365-8F92-3148D009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EB7A2-A78A-452B-95F3-DE1E1313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35F88-1AB4-48CA-A2C5-3222C993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6C4D5-5F49-4578-8649-9EC43E26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04FE8-72C0-4803-A389-73234FB0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5E4F7-B6A0-462B-8D50-5F50947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8C7-2BCE-40DA-9BD4-D87A2CE5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86A7B-D9EF-46F1-BF39-75A3F691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4227-E978-4ED4-AD6D-DDD4D9C9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FD48C-D5D4-467E-906E-AE6FAAA6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0BBCA-5B1A-485C-ADA8-C2A05425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90CAB-50DC-47AE-9E84-A1E209B1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E96B4-0204-4305-A0B4-BB66E234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5EF18-0217-4D95-9760-92FF033C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8FB5-CE2B-49E1-9E8C-FAC78F30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EC4AA-1DB4-4391-88D2-71A8CF66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4B96D-FDBA-49D0-A2E4-3A15BB68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EE5-14A8-4771-944F-8590C85E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208CA-FDE1-4B9F-BECC-2FCB97C4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1B393-1935-4CBC-8D63-DE65564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FFD42-C443-4581-B6C6-C86B4286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A989D-4AA2-4637-B111-B4B570B0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57C33-0611-410B-9E27-EEEC4254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5939C-C02E-4E64-8799-4EEF6FE9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C4A17-69E3-431C-BAB1-88FAE427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EAD50-4EC7-4125-87F1-CE5F1C94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7228B-9B9A-43A8-861D-746184AA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76256-062B-4678-A44E-7A4D530D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B57-523D-459C-9BCE-65FD2890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1723F-1D22-40A6-99A8-22F63451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AE6BD-BA9B-4C77-A610-2BE6EA8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B4B92-3522-4BC4-9EF8-37B60C44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E2CAE-3085-40BE-9716-88BC8940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DF242-0FD3-45F2-BBC9-B852122F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88859-3B34-4904-841E-0D189BD7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7036D-72CF-4E76-8DAF-4921E33E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E6CD6-6438-456D-B5EB-64EDE5CF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3E9E3-18B6-4C21-91ED-93BF5CD0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15A5D-20A1-4F71-9860-98B10DE1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6009-6CB8-4BEA-B1AC-DE8AC21B32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9432-1014-45FA-8E4C-BF33097533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8E1F-B5D6-4E61-8140-D8657C3506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8A04-5629-48A2-ABEC-9A12F319FC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D803-1E91-4A40-BAC1-5B5C830D81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12EB-52BE-4180-A6A8-62AB4ADA93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8540-3A05-4C8C-874D-9973697A03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B2D2-19E2-47BC-BB73-A9BFD215C8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E072-38E0-4E5A-AB1E-F199DD7276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97E7-9C39-44EB-8353-4E2CFF4258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AD0C-920F-4788-B886-7D77F21DC0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10E2-B018-4791-9C2A-D8EE554CD3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BDF2-1180-4B15-8480-079F9C0046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9021-10BD-4463-9BDF-B662CBB702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A4F5-40DD-49A1-83F4-0E172454CC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766E-EF9A-4D95-9BBF-F159D781FD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F0AC-B8C3-43BD-8CB6-515CDB2CAA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8C06-316E-4984-90BD-A5828D93BD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B32D-C3CB-4AB7-8494-C97BE6A1FD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3B27-5795-44C3-A4D6-4B6F0595BF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3DA4-2624-4F80-B4F0-FDDD40440C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680B-954C-471F-B5F1-78E8856780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5F79-FE29-4F8A-BB26-19DC8CA49C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6D4C-7C58-42DF-8E7B-AFAB06095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35E7-7F69-41E7-8E85-0A3AD2388D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0FDB-17F8-44CE-B864-45E857A6F0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92BF-80D7-492E-A36C-FF24C2B6EC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DD24-038A-4897-84FB-1C8D9ED7B9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D3D7-0751-47F8-BE20-59BA74D601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7DAE-FCB4-43D8-A273-F83CC244BA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87EB-7BB1-414F-8BBC-2AE2E99C24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EB2B-CE46-4D3A-82DD-7C19AAA335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2D1A-1F30-4259-B344-677F7E222C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6DC3-B830-4337-BDCE-95407E68A1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0D92-ECBC-4E86-9780-D99832BE00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CE2C-F1AA-44EF-B1F3-4A875B3E9C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7668-5F90-4ED9-9314-2DD10C8F52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3B46-7B01-4729-9C4C-158FB23347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CE18-9D80-4FDE-8453-7DFF6DEEDE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757600" y="1989000"/>
            <a:ext cx="3628800" cy="97164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1324080" y="3301920"/>
            <a:ext cx="64958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3313" descr=""/>
          <p:cNvPicPr/>
          <p:nvPr/>
        </p:nvPicPr>
        <p:blipFill>
          <a:blip r:embed="rId1"/>
          <a:stretch/>
        </p:blipFill>
        <p:spPr>
          <a:xfrm>
            <a:off x="409680" y="1347840"/>
            <a:ext cx="8324640" cy="41623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1042920" y="3184560"/>
            <a:ext cx="748980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755640" y="4998960"/>
            <a:ext cx="74898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4337" descr=""/>
          <p:cNvPicPr/>
          <p:nvPr/>
        </p:nvPicPr>
        <p:blipFill>
          <a:blip r:embed="rId1"/>
          <a:stretch/>
        </p:blipFill>
        <p:spPr>
          <a:xfrm>
            <a:off x="433440" y="2633760"/>
            <a:ext cx="8277120" cy="15904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6551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5" name="图片 22529" descr=""/>
          <p:cNvPicPr/>
          <p:nvPr/>
        </p:nvPicPr>
        <p:blipFill>
          <a:blip r:embed="rId1"/>
          <a:stretch/>
        </p:blipFill>
        <p:spPr>
          <a:xfrm>
            <a:off x="85680" y="790560"/>
            <a:ext cx="8972640" cy="5276880"/>
          </a:xfrm>
          <a:prstGeom prst="rect">
            <a:avLst/>
          </a:prstGeom>
          <a:ln w="0">
            <a:noFill/>
          </a:ln>
        </p:spPr>
      </p:pic>
      <p:sp>
        <p:nvSpPr>
          <p:cNvPr id="1026" name="直接连接符 22530"/>
          <p:cNvSpPr/>
          <p:nvPr/>
        </p:nvSpPr>
        <p:spPr>
          <a:xfrm>
            <a:off x="3606840" y="2205000"/>
            <a:ext cx="3097080" cy="863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直接连接符 22531"/>
          <p:cNvSpPr/>
          <p:nvPr/>
        </p:nvSpPr>
        <p:spPr>
          <a:xfrm flipV="1">
            <a:off x="4067280" y="2276280"/>
            <a:ext cx="2592360" cy="865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直接连接符 22532"/>
          <p:cNvSpPr/>
          <p:nvPr/>
        </p:nvSpPr>
        <p:spPr>
          <a:xfrm>
            <a:off x="2050920" y="4005360"/>
            <a:ext cx="460872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直接连接符 22533"/>
          <p:cNvSpPr/>
          <p:nvPr/>
        </p:nvSpPr>
        <p:spPr>
          <a:xfrm>
            <a:off x="2036880" y="4869000"/>
            <a:ext cx="460836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22534"/>
          <p:cNvSpPr/>
          <p:nvPr/>
        </p:nvSpPr>
        <p:spPr>
          <a:xfrm flipV="1">
            <a:off x="2411280" y="4005000"/>
            <a:ext cx="4248360" cy="1657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21505" descr=""/>
          <p:cNvPicPr/>
          <p:nvPr/>
        </p:nvPicPr>
        <p:blipFill>
          <a:blip r:embed="rId1"/>
          <a:stretch/>
        </p:blipFill>
        <p:spPr>
          <a:xfrm>
            <a:off x="252360" y="922320"/>
            <a:ext cx="8639280" cy="5315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273320" y="2060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5076720" y="2060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1332000" y="422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5234040" y="4264200"/>
            <a:ext cx="50472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20481" descr=""/>
          <p:cNvPicPr/>
          <p:nvPr/>
        </p:nvPicPr>
        <p:blipFill>
          <a:blip r:embed="rId1"/>
          <a:stretch/>
        </p:blipFill>
        <p:spPr>
          <a:xfrm>
            <a:off x="723960" y="1438200"/>
            <a:ext cx="76960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8193" descr=""/>
          <p:cNvPicPr/>
          <p:nvPr/>
        </p:nvPicPr>
        <p:blipFill>
          <a:blip r:embed="rId1"/>
          <a:stretch/>
        </p:blipFill>
        <p:spPr>
          <a:xfrm>
            <a:off x="81000" y="852480"/>
            <a:ext cx="8982000" cy="5153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50472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7" name="组合 9219"/>
          <p:cNvGrpSpPr/>
          <p:nvPr/>
        </p:nvGrpSpPr>
        <p:grpSpPr>
          <a:xfrm>
            <a:off x="471600" y="907920"/>
            <a:ext cx="8200800" cy="5761080"/>
            <a:chOff x="471600" y="907920"/>
            <a:chExt cx="8200800" cy="5761080"/>
          </a:xfrm>
        </p:grpSpPr>
        <p:pic>
          <p:nvPicPr>
            <p:cNvPr id="1048" name="图片 9217" descr=""/>
            <p:cNvPicPr/>
            <p:nvPr/>
          </p:nvPicPr>
          <p:blipFill>
            <a:blip r:embed="rId1"/>
            <a:stretch/>
          </p:blipFill>
          <p:spPr>
            <a:xfrm>
              <a:off x="471600" y="907920"/>
              <a:ext cx="8200800" cy="40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图片 9218" descr=""/>
            <p:cNvPicPr/>
            <p:nvPr/>
          </p:nvPicPr>
          <p:blipFill>
            <a:blip r:embed="rId2"/>
            <a:stretch/>
          </p:blipFill>
          <p:spPr>
            <a:xfrm>
              <a:off x="1979640" y="5154480"/>
              <a:ext cx="5371920" cy="151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00000" y="9223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826920" y="3645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0241" descr=""/>
          <p:cNvPicPr/>
          <p:nvPr/>
        </p:nvPicPr>
        <p:blipFill>
          <a:blip r:embed="rId1"/>
          <a:stretch/>
        </p:blipFill>
        <p:spPr>
          <a:xfrm>
            <a:off x="642960" y="804960"/>
            <a:ext cx="7858080" cy="52480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2289" descr=""/>
          <p:cNvPicPr/>
          <p:nvPr/>
        </p:nvPicPr>
        <p:blipFill>
          <a:blip r:embed="rId1"/>
          <a:stretch/>
        </p:blipFill>
        <p:spPr>
          <a:xfrm>
            <a:off x="190440" y="903240"/>
            <a:ext cx="8763120" cy="5334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332000" y="4797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332000" y="566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1332000" y="2924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1332000" y="20178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1265" descr=""/>
          <p:cNvPicPr/>
          <p:nvPr/>
        </p:nvPicPr>
        <p:blipFill>
          <a:blip r:embed="rId1"/>
          <a:stretch/>
        </p:blipFill>
        <p:spPr>
          <a:xfrm>
            <a:off x="128520" y="1200240"/>
            <a:ext cx="8886960" cy="44575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41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1403280" y="5056200"/>
            <a:ext cx="6193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8:47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